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5632-82F5-49F3-AFC9-DEECAD01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A5FD-3948-4647-8345-2AFEEB03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40BE-88C5-4F4C-B8A0-C2734A3A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2DD0-E8B4-4F2A-92EA-80ADAF701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6DCB-A4BB-4E79-B7B4-96BA572B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BD93-FE6F-49D4-8EED-238499365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6AF2-0530-45B5-8921-26F89BA7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CED6-9FC1-42FB-A17A-2D83D1AA5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F084-DC0F-4DE2-BE3C-4773C1913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01DB-760F-423A-B5CE-FE3EA5B2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E499-C06A-4F7F-AA6E-BCAF1DBA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1EA-D8CA-4719-9628-FECC3E79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8A277-A83D-4B11-BB21-B9797B4C3DA0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1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57200" y="2971800"/>
            <a:ext cx="2895480" cy="8625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執行檢索程式後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此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資料庫的主畫面</a:t>
            </a:r>
            <a:r>
              <a:rPr b="1" lang="zh-TW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04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838080" y="5562720"/>
            <a:ext cx="3353040" cy="5806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Style: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提供該小說的風格之基本元素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諸如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觀點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象徵性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15000" y="3505320"/>
            <a:ext cx="106668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514600" y="3733920"/>
            <a:ext cx="3200400" cy="1828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04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" y="5410080"/>
            <a:ext cx="419112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Historical Context :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提供作者寫作小說時的時代背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562720" y="3809880"/>
            <a:ext cx="20574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286000" y="4114800"/>
            <a:ext cx="3276720" cy="12952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04" descr=""/>
          <p:cNvPicPr/>
          <p:nvPr/>
        </p:nvPicPr>
        <p:blipFill>
          <a:blip r:embed="rId1"/>
          <a:stretch/>
        </p:blipFill>
        <p:spPr>
          <a:xfrm>
            <a:off x="228600" y="114480"/>
            <a:ext cx="8763120" cy="6572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" y="5410080"/>
            <a:ext cx="42670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Criticism :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資料庫所提供的一般性評論文章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以及其他相關的文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4191120"/>
            <a:ext cx="1143000" cy="304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676520" y="4343040"/>
            <a:ext cx="4038480" cy="1066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04" descr=""/>
          <p:cNvPicPr/>
          <p:nvPr/>
        </p:nvPicPr>
        <p:blipFill>
          <a:blip r:embed="rId1"/>
          <a:stretch/>
        </p:blipFill>
        <p:spPr>
          <a:xfrm>
            <a:off x="304920" y="171360"/>
            <a:ext cx="8610480" cy="64580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5562720"/>
            <a:ext cx="4114800" cy="5806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Additional Resources: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資料庫提供額外的資源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進階閱讀資訊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改編的媒體作品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4495680"/>
            <a:ext cx="1828800" cy="381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2743200" y="4800240"/>
            <a:ext cx="3124080" cy="76212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05" descr=""/>
          <p:cNvPicPr/>
          <p:nvPr/>
        </p:nvPicPr>
        <p:blipFill>
          <a:blip r:embed="rId1"/>
          <a:stretch/>
        </p:blipFill>
        <p:spPr>
          <a:xfrm>
            <a:off x="228600" y="114480"/>
            <a:ext cx="8763120" cy="65721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04920" y="4876920"/>
            <a:ext cx="2743200" cy="5806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作者功能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(Authors) :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提供按字母順序的作者名列表給讀者使用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06" descr=""/>
          <p:cNvPicPr/>
          <p:nvPr/>
        </p:nvPicPr>
        <p:blipFill>
          <a:blip r:embed="rId1"/>
          <a:stretch/>
        </p:blipFill>
        <p:spPr>
          <a:xfrm>
            <a:off x="304920" y="114480"/>
            <a:ext cx="8686800" cy="6514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4876920"/>
            <a:ext cx="2819520" cy="5806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角色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(Characters) :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顯示所有故事中人物角色的姓名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07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04920" y="4876920"/>
            <a:ext cx="2971800" cy="8240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文學項目百科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(Encyclopedia of Literary Term) :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提供事項的清單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文學運動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虛構的人物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文學形式和風格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08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580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457200" y="4800600"/>
            <a:ext cx="4419720" cy="5806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時間表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(Timeline):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讀者由可移動式的方塊或者對話盒裡鍵入年份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藉著時間檢索方式來搜尋資料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676520"/>
            <a:ext cx="76212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10080" y="1295280"/>
            <a:ext cx="1295640" cy="609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09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80880" y="4495680"/>
            <a:ext cx="2743200" cy="8240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全文檢索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(Full Text Search):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讀者可在對話盒中鍵入任何名詞或片語作檢索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二次世界大戰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(World War 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10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3520" y="4724280"/>
            <a:ext cx="5105160" cy="82404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個人檢索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(Custom Search):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提供五個檢索功能供讀者使用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小說標題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(Novel Title)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人物角色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(Characters)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主題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(Subjects)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作者國籍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(Author Nationality )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全文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(Full Text),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讀者自行選擇檢索的方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02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10480" cy="6458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3520" y="2666880"/>
            <a:ext cx="2819160" cy="11944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首先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初步檢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資料庫提供一個對話盒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讀者可以輸入任何關於欲檢索資料的相關字串或語句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由系統搜尋對應之資料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作者名 馬克吐溫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(Mark Tw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3200400" y="1904760"/>
            <a:ext cx="45720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81280" y="1447920"/>
            <a:ext cx="502920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11" descr=""/>
          <p:cNvPicPr/>
          <p:nvPr/>
        </p:nvPicPr>
        <p:blipFill>
          <a:blip r:embed="rId1"/>
          <a:stretch/>
        </p:blipFill>
        <p:spPr>
          <a:xfrm>
            <a:off x="1143000" y="182520"/>
            <a:ext cx="6858000" cy="64929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840" y="15840"/>
            <a:ext cx="3718080" cy="5806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線上指引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(Help):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讀者可由主畫面的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Help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選項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取得使用相關訊息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13" descr=""/>
          <p:cNvPicPr/>
          <p:nvPr/>
        </p:nvPicPr>
        <p:blipFill>
          <a:blip r:embed="rId1"/>
          <a:stretch/>
        </p:blipFill>
        <p:spPr>
          <a:xfrm>
            <a:off x="152280" y="171360"/>
            <a:ext cx="8763120" cy="65725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5840" y="15840"/>
            <a:ext cx="5546880" cy="5806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多媒體走廊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(Multimedia Gallery):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主畫面右下方提供一個整合的媒體搜尋功能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包含圖片 聲音 文字閱讀的完整列表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讀者可憑藉已知的片段訊息來做圖文並茂式的檢索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03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85800" y="3581280"/>
            <a:ext cx="2133720" cy="5806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輸入‘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Mark Twain’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後系統顯示的檢索結果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.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01" descr=""/>
          <p:cNvPicPr/>
          <p:nvPr/>
        </p:nvPicPr>
        <p:blipFill>
          <a:blip r:embed="rId1"/>
          <a:stretch/>
        </p:blipFill>
        <p:spPr>
          <a:xfrm>
            <a:off x="304920" y="285840"/>
            <a:ext cx="8458200" cy="6343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38080" y="3352680"/>
            <a:ext cx="1828800" cy="9511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小說指導功能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點選後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出現另外視窗供讀者使用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畫面如下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33920" y="2362320"/>
            <a:ext cx="2895480" cy="685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666880" y="2742840"/>
            <a:ext cx="990720" cy="6858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0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8610480" cy="6458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85800" y="5181480"/>
            <a:ext cx="7620120" cy="7077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讀者可從左方瀏覽目錄中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選擇一個資料庫裡任何關於故事的項目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然後再由螢幕右方的功能選項中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選擇想要查閱的文件資料型式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分別說明如下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914400" y="2590920"/>
            <a:ext cx="4343400" cy="2438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209680"/>
            <a:ext cx="1600200" cy="2819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04" descr=""/>
          <p:cNvPicPr/>
          <p:nvPr/>
        </p:nvPicPr>
        <p:blipFill>
          <a:blip r:embed="rId1"/>
          <a:stretch/>
        </p:blipFill>
        <p:spPr>
          <a:xfrm>
            <a:off x="152280" y="171360"/>
            <a:ext cx="8763120" cy="6572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609480" y="5410080"/>
            <a:ext cx="4114800" cy="70776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Overview :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對於查詢的小說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提供一個總體的評論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另外也列出其他的評論文章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638680" y="2057400"/>
            <a:ext cx="1524240" cy="6094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733920" y="2590560"/>
            <a:ext cx="1981080" cy="2819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04" descr=""/>
          <p:cNvPicPr/>
          <p:nvPr/>
        </p:nvPicPr>
        <p:blipFill>
          <a:blip r:embed="rId1"/>
          <a:stretch/>
        </p:blipFill>
        <p:spPr>
          <a:xfrm>
            <a:off x="304920" y="171360"/>
            <a:ext cx="8610480" cy="6458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57200" y="5638680"/>
            <a:ext cx="426708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Plot Summary: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顯示關於小說敘述內容的摘要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2514600"/>
            <a:ext cx="175284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048120" y="2895480"/>
            <a:ext cx="2666880" cy="27432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04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38080" y="5638680"/>
            <a:ext cx="3810240" cy="58068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Characters: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顯示小說裡出現的人物清單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讀者可以選擇角色的人名或者自行鍵入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791320" y="2895480"/>
            <a:ext cx="137160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352680" y="3123720"/>
            <a:ext cx="2438640" cy="251460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04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686800" cy="65152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09480" y="5715000"/>
            <a:ext cx="4191120" cy="337320"/>
          </a:xfrm>
          <a:prstGeom prst="rect">
            <a:avLst/>
          </a:prstGeom>
          <a:solidFill>
            <a:srgbClr val="fcff91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Themes/Subjects: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針對選擇的小說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1600" spc="-1" strike="noStrike">
                <a:solidFill>
                  <a:srgbClr val="000000"/>
                </a:solidFill>
                <a:latin typeface="Arial"/>
              </a:rPr>
              <a:t>顯示對應的場景索引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3200400"/>
            <a:ext cx="1905120" cy="3808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048120" y="3505320"/>
            <a:ext cx="2666880" cy="2209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7T06:11:21Z</dcterms:created>
  <dc:creator>lib200024</dc:creator>
  <dc:description/>
  <dc:language>en-US</dc:language>
  <cp:lastModifiedBy>lib200024</cp:lastModifiedBy>
  <dcterms:modified xsi:type="dcterms:W3CDTF">2002-02-07T08:57:58Z</dcterms:modified>
  <cp:revision>14</cp:revision>
  <dc:subject/>
  <dc:title>PowerPoint 簡報</dc:title>
</cp:coreProperties>
</file>